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37B-341E-4B5E-9BFE-8F0FC2EF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F75-2688-4E12-9225-C66EA3CD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FE6F0-50C2-4860-8B7D-E87FFE86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AA5C5-2917-4FD9-9C03-5C027BFC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80D8C-DCB6-4901-974C-6B9EBC93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DB65D-C5E1-4FB4-9683-8C67E729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C41A8-E543-4B31-BAA2-300DC0C8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7AD09-8ED4-483B-BD10-F9402A7E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D9BD0-A691-4BFE-9460-228DE97A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D3083-8FFD-4EA9-8AF5-28C27865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A2936-5039-4D5C-BBCD-94625153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C38E8-C643-44EA-AC9A-48DD541F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C7F2-7EC9-4749-BD79-E6F53B09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A3625-1ECB-4F59-840C-9D9AE21A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3F1AD-5178-4474-AB38-2379A62E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FE7F8-8A25-48E5-B6B7-046FFA82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5E0DC-824A-41E9-A53C-426D6EE3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46C3D-3732-44F8-99E5-7C8D4703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DD20B-DC88-4E0E-A53D-4B6BB124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12657-3A53-4EC7-A9CB-705810EF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2C6BE-CA2F-462B-8429-080E4C8B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4F892-5BF4-4788-A926-132349A7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4FC00-11D2-49E4-89D7-E8E7FC25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BBBB-F8BD-40EF-A5DC-C81DD1B5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80BFB-9746-435D-9D08-A39BCD32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776E1-C278-41A5-A3BA-92E4E719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5D31B-3BCF-4701-B0A2-A1EE6AFD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EC430-678F-4500-A738-AA76D6E7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C43FC-D381-42D0-8F44-94CBFB95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F282F-3168-4A2C-ACDE-129016BD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6DCA3-3900-474D-A0AD-7F2532C0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55FC7-EF0F-4FC6-B693-A42DF3F1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6A94C-1DF3-4BB0-9CA1-47C13ED3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2A80C-3CA8-4CC2-9760-03597D25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6C0C-26F2-439F-9932-D3EF43B4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14172-46A8-4641-B1F0-A669A19A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CE777-1AD1-4C4B-97D2-64D14E5C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1FE8D-8945-4E66-86BD-5F82FD61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06ACC-39FE-4A3E-9964-C1E67DF7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93BD0-EBBB-43CC-AE37-37D2CFCD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EA9FE-AB0E-4320-92A3-34217431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43F7E-5D03-48C6-B780-B05A65B5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FAC59-F339-484C-805A-B0EB6143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58F51-7605-47F4-8C36-02C394B9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F0F74-B12C-426D-AE17-632A517F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D11F-B554-4686-BC4B-6BED8B50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66489-3DEF-474D-B7AD-BFBA6D15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6C270-05E3-40F5-8628-BB8E3C27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BBBED-9522-48FA-B817-7F38E8A0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906A2-B2B7-4CCC-9DBE-9D936BAC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D7A9A-3B8E-492C-88CC-3DF8C0A3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92549A-C280-4196-B354-80A95EFE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56D2BE-AFEB-4A04-A819-1C6FA1A5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28E02-D5B1-411C-8C4E-22A38807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4E1CD-37E5-42EE-930E-7FEF49A8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C649B-AA63-4A58-A124-733B8606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5122-A1A1-40C5-9367-D1A94A75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67EB0-4DB8-45B5-8E3C-9DE5809E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C3B9C-FAD5-48BC-A32E-E79F1C30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69424-1A3D-42BB-99B4-63A8190A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F664B7-9B48-4E0A-8BAD-B75034D8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8652A9-AC9A-4ADE-A5F4-4900FC69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C838D-628F-432F-83FD-3ACA0649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6F50D-8784-4660-B850-4FC10A01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DDB3C5-A9B0-49C0-B272-2A807190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1C7F0-7AD9-4C51-9A91-B11C834B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94EF66-61E5-4AED-83AE-B883B789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9E1D-DE19-4145-82FD-9B4A617E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E3FE61-9F29-47BC-8E7E-986B2649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07F0A8-2DEA-4EFA-A29E-F464ED2E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24CC53-FE83-488D-ABBA-6401DFCD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4975B-61D7-43BB-8D6A-6EF6C256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656E43-04D8-4297-B356-5180128E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1E4D24-E76C-42A5-90AB-1E0D074A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E9281-3114-4915-9237-F104B343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2CC7D4-0C57-4979-9C09-E66BA28A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6D3B11-A31D-4E7D-AB5E-59BAAA1B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8232B3-6B92-4B0D-A810-4A048A8E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276D-83AC-4171-9FA1-3DE0CB11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5FE6D-556C-455A-91CF-9284E7DB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8E876E-AFA7-4E85-A15A-5AFD9DDA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310475-C876-4650-9FAD-73A22E10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E0A446-7B75-42C0-B828-657E2E6A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9D29A0-9806-430C-830C-FD40C94A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D8F4F8-080E-43D3-8959-7C8AC260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A423A3-6A46-408D-B69D-ED2D58C8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9AF686-71FA-4966-B638-C2A2D3E0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CC3BD6-DA0A-4FE7-9A84-06A19877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04F360-0AF2-4A1F-92D8-42A6CEC8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FEFB-0777-4DD6-8F03-6C7FC3F9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9082B0-5A83-4465-A6C4-E12454BC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DA18C4-780A-45EF-820D-A02DC5B7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6E3CFC-4C83-45AB-B409-E2B62036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E674F8-31D0-4892-BBBE-B2986ADC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1FACA8-9806-47C5-AF98-0C7AF69B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C2C92-14CF-4757-AE63-429091DE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ECBE10-9070-40DC-9778-2B5C0FEB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413125-E900-48A5-BE0B-016D4D1B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FCBD30-4DA2-4DB5-9F25-6F33C71F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A659EE-C40D-4E2C-8706-0B77BE67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EAA8-6A18-4C12-BE2A-5728D6BC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2891C8-570F-4EE5-A166-232F4D7A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9AB22E-F966-49D1-B729-984BD653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D223A0-50E8-432A-8DD4-6B48D833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84E085-EA98-4201-89AF-4C4987AF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D09219-396F-48AA-B98E-0B05E632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358DA4-5B21-4925-B290-5BFBAF32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79FB38-4B1E-42FB-A301-3717D21C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CF118A-9BB1-49D3-BDBE-570EEA35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5539C2-C3CD-449C-A003-6E9670B7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2CE1F-B163-4843-9977-067E14EC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49E5-442A-4DEE-8E9E-BF14D921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932A-7F1C-46F1-9F96-970FD6B3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40B657-352E-4769-B9AF-95F6AEE4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66834E-77A3-4F91-8A0F-330AA508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D0843B-854F-49D2-AB68-A403D111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E3E511-7895-4622-8511-0BB55678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B3BF95-A774-46BC-B335-FA866C12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7F530F-D5AA-4CF7-AE4E-7DD56BC4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56BAA3-AC96-492E-B80C-570A5AE9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ED213D-51EA-4D49-8517-E7F5A3C5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80FD4E-1D1A-4D57-B8B5-338EC370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31D2DF-C2AA-4D82-8D82-AA1C7ABF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0594-48D6-4B8F-965A-38CE1C50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3A9B05-BA81-4E54-91DD-4C61E18E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8FB658-FF5E-4ABB-AE3E-CCBD01E2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9123F0-E4F0-4FCD-BD9C-1E29713E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85C24A-166D-4EBF-9160-A205C11F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E0A509-1C5B-40F7-B179-9B5EC2F5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2E5049-E50F-46DA-B4A5-84A2C255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39B43F-40F3-4563-806D-C3288111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1FE660-4E7B-44B7-B4F0-79503893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0A0676-8572-41CF-A987-314A28C8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E2D69F-EACE-4363-B78F-FBC888E0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7A3B-6790-4E6D-954D-B54172D3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CEA0D0-20AC-4E65-91FB-1ED97584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8582EA-0F68-4B60-A0A5-87AFF7B6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9A25FF-B840-4C54-A696-49FDD9CB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D29EEA-E3AA-4F6C-8F19-522DFEC4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FBAD57-CED8-4A9A-90AD-7491137F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5CDD53-97B2-4A2C-8643-889B0F69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CF5B24-F432-4207-BF58-ED719F81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E4A444-4AE6-4C24-841C-774C43DA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DF6226-8A98-49F6-95B2-E16B0337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630AAA-B5B5-4026-BFA3-09809D77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9B65-FAE8-461D-95EA-74DCF35E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8380EA-2600-4C48-83DE-D18416CA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AC1460-4B19-4EB6-A5EA-F91F5C09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D9CB5E-59C7-4F2C-8561-9C21352F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631A92-A7E9-4E62-B116-F08B0F63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ED9979-1265-4870-9317-14A84429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395875-D533-49FF-80AD-D362B0F9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3B46BD-6FC8-481F-877B-2FCFE424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C075FD-7241-4E8A-B6E6-A6BEC8E5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BE7C5F-96A3-4153-AAD4-54CDDB0C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D53A25-B7C5-405B-ABC9-56B75F69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54FC-4579-4B01-9C05-336A636D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D78E42-9AA8-400B-85C1-CA6506BF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89E633-B79E-44F2-8A98-ABB7DDB5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F66D2D-74FD-4701-9EBB-801555D4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268120-3F21-4277-A3D2-CEDF7EDA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27F03A-785D-4523-B155-C89A697E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2855F1-8C7E-4378-ABF6-462BBA68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1AE41D-BC52-4217-B0E9-D67EE06B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D4ED89-63CC-48EF-931C-51509229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221AD6-BD2B-46A3-8031-A1A4376C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789C2A-0AFC-49DA-A0D6-B0E32EDB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0CEE-9272-4DC8-8FAC-FE465AA4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03806E-B5B1-4019-ADD2-EE1E3FAB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E250E1-1E58-41BC-838D-5362751D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EE6352-3DE5-40B6-A657-103DE361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BDE1EA-94CF-4760-95C8-B13E74DC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ECCA0F-63BF-4F70-B3EB-C56C957A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5A154C-DDB5-41F8-B4AA-3281F64D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5C6D33-37BC-44CA-9D00-175C7941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48CE6B-985C-43C1-8397-B94E4502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49CA9C-D913-4740-86E9-06FD3A65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B9130B-880E-4141-B8D3-84A02942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112B3-016A-4B7A-B6DD-C760DFBD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B49B01-E6B6-4968-8AB1-7D6DD052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837E1D-9429-4D76-82D4-6C939C99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625177-E5DE-48CC-B548-9B23E573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492AEF-A377-4E04-99FD-B0B60353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9843D6-7868-42C7-BEEC-1E5DF913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8452E4-939F-4922-85B1-AA21A092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5EFE1B-400E-428F-A297-45608AFE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E11DC4-10FA-4E32-B5B9-7C2E1836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15F439-918B-411D-B181-FB497051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C111B3-1158-4B7D-AEEC-48DC65FC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EB510-B619-45E6-850B-D40DD53B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C7F07F-4985-4E31-8F9C-7417866A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F443E9-67F7-454A-861E-50F5E758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240CEF-2189-4D08-8473-143B0EBF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C5A2B0-F130-46FC-8F78-E02502B6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E96BE8-70DC-4925-A24F-8692D129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A7A3DC-3952-4E6F-976C-63AD2AF6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076B76-3F0A-4BAC-B387-66ADA114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1F891E-EEE2-42A1-A83E-F6855465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535724-FAFF-4FE2-AED3-83483392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74CAA3-3C69-4B82-B3BB-6FB593BE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C93F4-3ABF-4084-A6B6-BAF5477C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41973B-AD6B-4367-80FD-6C1ECE3F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026419-10A9-46C5-A6A3-09DFC909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030A35-308E-4A18-A005-E5F1DA15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248FB9-829F-4AD9-82BA-0C67E9D4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F88573-FD96-4B21-919D-E7CEBE22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C8D298-7370-4216-BA04-6EAF987A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8A30E2-A8B1-4FE6-A47E-A7CAF013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598137-AF00-4401-B696-1E9563E0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C9C904-7969-4AE4-8C3E-A09E00EA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F5CA27-F688-497F-B430-3DD1E885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B0670-C246-4DB6-B668-5CE0BD36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F210D2-72BE-4027-A5F4-FD7DB6B8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8B407D-B252-4B82-BE44-637FD37D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3D0AB7-0A1C-4695-8E1C-9A933780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2FC6F3-C394-4C31-989D-AF66BC0C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23FC3F-C991-4075-A9B4-CB593352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C5AC65-F2AA-49AA-8254-3219A403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F2DFCA-2905-4B90-91A8-6B4D59DC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CD61AA-5189-4201-B09A-5A8AE5DE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B367FD-788B-4C81-8DD8-7B6BD294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04F10E-7C13-409A-8AD1-32465B27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9C28-767B-4945-9C78-6222BA72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004B1-BA07-49C2-9727-091A073C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E630ED-F1F4-4663-B1B7-219D81B4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E23E6F-709B-4D41-ADAC-88B82131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E9C339-6475-4DA5-B6DE-E090EFC3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21FA8B-8BF0-4C2E-A2EF-CA9F92BC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0C0732-2BFB-4690-81F4-16E8EAFB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A456A8-71AE-4D00-B1AC-D7C7CE26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E32A6C-83E8-4EA3-9986-4ED903AD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FAD5C0-E18F-4F78-8F32-340EEF0B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1BEBDE-BC3A-4B7C-864E-5A59193D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808649-D3D9-483A-A045-EB9585C0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D1CE-CC6C-40A7-B19A-B0AB6A26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62B102-C780-4C6D-B917-61CDE7B4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EBBA67-4AB3-48A3-9D97-23AE3D7E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EFEB50-5976-4A84-90CB-5A637061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83E61B-3FDB-4304-A56E-E7E4EAED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E8DBD2-68F3-43C4-8381-6A91EA22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EFFEFB-C894-49A5-8FE0-E12C0C28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94AEA4-1FA3-40C6-9582-592421F0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06D69A-F209-4C6E-95E2-09BC866E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76D74D-FABE-440D-A0DC-2C1B182C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9B28F4-EEDA-4593-9D52-CCF1B0C7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29710-7A29-406E-93AF-7A0637F1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327B10-A5C0-4D2B-B9C4-B71EADF0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EB3F42-C5BB-48A2-9FE4-D9985D8F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232831-FF01-4CDD-A5C8-21BD6551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84E3AF-5AD8-4B49-8730-FF4817E0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6F6D90-2FBB-4D63-9753-E237996E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6087E7-9E9F-467E-8AEC-D358728E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658FD6-4C87-49A5-A739-D71B57C2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C6A60D-5D20-49D5-B305-FFA1A06F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DCF8C9-A9D3-4A3D-8868-60971FA9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8CEC7F-6447-4C77-BC1C-4BF82C8B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84321-4511-4C8E-AAB2-A43566D6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E6A7DC-0E2E-48DD-A9C8-C6259257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57015F-D8B3-4575-813C-50469EBC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A90EA6-7A3F-4694-AED6-492BDF83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D12F5D-A4A0-4399-A516-7AD85CBD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BB5675-B233-4442-A326-435CAFFE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54DCA9-B1B4-4F88-BBBF-876DB528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B59972-15D5-427D-BA53-490A4836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800171-BB8F-4D68-9DCE-DA5A6945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8732EB-E622-45FF-9308-9E9DE049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AEE0CF-D5CD-4C99-869D-E05FC49E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922FF-EC92-491C-A645-2FECCE3B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68F1B6-298A-4086-A98F-A2F38AA1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AE9033-62D2-446A-BB04-AE11CF6E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CE1568-0BCA-4E5D-A758-01AE657B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2EA4F2-F811-467F-89E5-00860F8D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0AC90B-4FDD-4F29-8BCE-47DAE654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3CF543-08A4-4A7B-8AD9-8E9DCDEB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76646A-F3B4-43EA-B3F1-F011D927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C06825-7895-4A4E-930B-EF9A16F2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FD3131-E8FD-4A5D-B5F2-BA2F655A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4A289C-DFDA-4D12-82C2-13D11E09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3042D-FF42-4B64-A04D-65F46922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91923E-B1FF-4BFF-9D96-051C5E4B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CA6322-DEA2-4AB0-A468-5ADB8B2F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7B4387-68A7-4266-8ADE-21AD89E0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E5B1A2-F0B5-4AA3-B65E-B5A97F3F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F8C9DA-73FB-42AF-AB1C-635EAA07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D0D9D2-835F-4460-AF20-A653159C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060F19-2E08-41B1-892F-63801D21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D652FA-541F-4DB7-9C6A-500924D1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20C857-14A1-4BBB-BFAB-D54DB53C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C92B72-E8F5-4604-9E61-A0A32B46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ACBC8-566D-4AE3-9366-A48B279C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7C9AAE-6762-4F28-9A7F-F5D17367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02A855-BB5C-4B9A-9457-174E67C6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9E0B6F-5240-49CB-B36D-540B0279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46B6C1-3621-43BE-A417-82AFED85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7DA819-2BC1-483A-80E4-9CDE2AF8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775767-FF62-4729-B9AC-B2E53308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48A719-49BD-4CB4-88DA-647EAE8D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BB40AF-F66F-4039-9BA1-AC81B721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BCC24A-0C5A-4EE8-A6ED-AF9641D9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8B06C9-989C-4CA1-A54D-5BB36482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3BAB9-5568-4AB8-BCEF-BA3EBFBE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563141-374D-4419-ADB3-9F240074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F1B191-68E8-4BA2-90B5-31D553EC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BDB9E2-A904-47EF-98E7-04888571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6BDD1-F253-4BF7-83D4-49129CF2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32CF4-EA2D-46D0-B0C4-440E3EFE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84BC-10AD-4D22-967A-FB293351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676EC-D37E-4A5F-A2C7-B39C1FB6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A00D9-471C-4042-BE77-861CEDBF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5A492-6BD8-4A97-99A3-F2D61880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47A99-7420-4CCF-9FA9-6DEDD112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B4EA1-60D8-4FF8-B259-E05E81AE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53947-A15F-422F-BE42-4D8BF6D7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59572-6494-459F-B13F-3918F2F2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BB03B-2BB7-43AE-8563-061D9A68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D5017-E420-465D-87CD-5F16669F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15E30-CFBA-41E9-9C69-4648FAB7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C4E-105A-4779-AA24-1487A741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A593C-F098-4083-AE75-05BB172A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A6A6C-9304-48F9-8F5D-F1C8F404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53CEA-C8A5-4A98-BED8-3FAB205C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86879-8387-421B-95E7-3E9B5164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9DD1D-BB97-4E47-BCF3-602C67D3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43336-C0D9-4CC9-A697-380DB8C3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EAECE-D539-4B10-A184-9E9C3D39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564AF-3E4E-4DA5-8452-268E22D8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70DA4-5666-427B-8E7E-837209FF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D1EA1-16D2-4E23-88F3-2C298536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A5BF-ECE9-4046-B622-0DF74FEA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21021-5B65-4B84-BA1C-3D61B12E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26DDA-848D-4886-BBE7-B8ACF656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05E6E-B3E1-4911-BB2C-C4A43A22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1A8E9-DF19-420A-B6FC-A26FBB68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40F11-ABFF-4443-B6FB-60131234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89D96-6897-4162-A57D-DB91D7C1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7AFE7-853E-413F-8799-88938577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59B75-2A7C-4F24-B122-D7E75768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A152D-22FE-40D4-B475-8DF7F269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F1C44-26B7-4448-BC40-901EA5D9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CE9-DEEA-495E-992E-4723B478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668E4-D45C-4D68-A3F4-5535F177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232DA-F4BC-4C57-A675-D596C5D5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69E6C-67AC-43A1-9AFF-EF33EFF8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58B8B-615B-43D4-B4CC-44D3DC57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BF1DC-9A63-4F19-9F93-F8448CE8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11503-9965-4F16-81A7-A2283646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A4BD4-3FAD-4496-8F32-DF22733D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D527A-1794-425F-A2E3-A63CB1DB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8EB4A-A1FD-4455-AB45-42D2AE93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315D8-71EA-4127-A692-3125EB68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1C4-0707-4CC9-A14B-9F489450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C4A6C-F321-4ABE-893E-61F17F63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C59D3-2DE6-460F-A1FB-04C126A3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4501D-3379-4CEF-A1F2-8D086E1C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C3FAB-36FB-45A1-AB86-BA23ED79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E265A-807F-4C69-8FD0-B8E31820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9D32C-A62B-4F03-AED1-7F8E5C5E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6FCDA-CECE-44C6-8872-F12DC8E6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6FD24-8523-4F21-97FE-2A8A17EF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761B5-CF10-419D-8819-41D973CC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60EA4-54D1-436D-8880-43B8DA5A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689-BA25-486B-9941-FA25B708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F404C-894F-4A11-BFE6-55A34CEB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20C51-6645-419B-8DF6-78176B21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A0431-6224-4847-9D74-C7DD5F36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3CC2E-D561-450F-AB59-99014975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9E2D3-4A36-4269-99BC-DA202EFF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248E0-388D-4613-A749-59810A4F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05AC4-A428-4FE3-8468-7B1FE176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71388-E94C-40EE-AF7A-73F72658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B7CB3-0501-4B78-8683-5EE7681C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9230D-34C2-4ACC-9C3B-F6C54A5F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4256-BCC3-47E0-B64B-2C35A368E7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1AFF-EFE6-4401-B6F9-9AB5DAE62B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D01D-FBF6-4F63-ADF4-800FF72810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E112-C85E-4703-AB79-8FCED31B7C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8767-B7E5-4F52-98F4-FB2876F876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75B0-3781-43DE-B5A8-D228A1F2EB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0254-7662-46EB-84E0-D83ED554D7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A4D8-6902-407C-8BBC-E075A5CB51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7F1B-2C54-417E-8655-3F1876E50F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BCF3-6F7E-4A82-82AB-5EB8D6933C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19FF-4B49-40AA-A17D-2C9683E571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D2CD-4495-4A10-82E8-54ECCFB91E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C881-B961-4DB1-A17E-603C071D86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7BE8-BB6D-41F2-8868-A112EF5F60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6103-451E-4F72-B7CE-482429E09C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85D0-1E7A-425D-9147-45E5056389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02C3-A15D-4BA5-8814-B68D192A37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26A4-7150-400A-A309-0B76438DBB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2777-FFB1-42FE-9443-C0B74BE499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B0C1-AC6D-4BDE-A952-0BBBACF202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0686-7B7D-4B81-BF52-3AB73F1B83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3002-74BA-474C-9E78-255184D94F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AF55-287D-4533-A0A3-FDF1EC3CC6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3785-52C4-4A29-AC45-BDA368AE3B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7120-332D-4AEB-B118-F8BEFE4E9A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E0C5-640B-4DDF-A262-E0BA77A5D4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288E-7BD4-484F-A0CA-8B8B15AFEC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5A40-7576-4E4B-B405-0CE10BB175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B1EA-9226-4462-863B-32757CB81E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B154-D528-469B-A44A-E296009120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C375-A9E3-4D7D-BDE5-3B4F2D42EF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77E5-0DB4-43FD-B531-E7CBFA7799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7A1C-0F09-4E9D-BBB8-1CF725E6D7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29D6-26AB-457F-A6AA-1A48F3622B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9E54-A465-4983-872A-3CE75DACBD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69BD-BD4A-4F39-B681-C0AFEADEEB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22AF-D0F4-4805-9969-B3E207C6C4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EDD6-DBAF-4ABC-BF50-903D1E2FEF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F9D1-1F91-4D30-8EDA-EBD2762BDB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44F2-FD25-4A03-99FE-F184F9E8E8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2D99-498C-4E0D-BA49-87842E6479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5B2C-8098-44C5-B6BC-5722034DAC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87FF-6707-4AD1-82AC-3799E064B1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A8F0-045E-4D90-8831-8884397A17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5BB3-DBFF-4B78-9025-0372DBF738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EC51-642D-4CD2-BC84-99E5BD16C8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A7B9-13C1-49F3-9D32-92DA6A68F6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E081-86A2-4762-9513-F51C14A7B9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829E-320B-4C6B-A200-FD81BB4204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38B8-B051-4F4D-B9E8-E232634FFB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1295280" y="3095640"/>
            <a:ext cx="65534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91137" descr=""/>
          <p:cNvPicPr/>
          <p:nvPr/>
        </p:nvPicPr>
        <p:blipFill>
          <a:blip r:embed="rId1"/>
          <a:stretch/>
        </p:blipFill>
        <p:spPr>
          <a:xfrm>
            <a:off x="552600" y="1228680"/>
            <a:ext cx="8038800" cy="4400640"/>
          </a:xfrm>
          <a:prstGeom prst="rect">
            <a:avLst/>
          </a:prstGeom>
          <a:ln w="0">
            <a:noFill/>
          </a:ln>
        </p:spPr>
      </p:pic>
      <p:sp>
        <p:nvSpPr>
          <p:cNvPr id="1469" name="矩形 91138"/>
          <p:cNvSpPr/>
          <p:nvPr/>
        </p:nvSpPr>
        <p:spPr>
          <a:xfrm>
            <a:off x="2987640" y="1916280"/>
            <a:ext cx="1022400" cy="309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91139"/>
          <p:cNvSpPr/>
          <p:nvPr/>
        </p:nvSpPr>
        <p:spPr>
          <a:xfrm>
            <a:off x="6850080" y="1773360"/>
            <a:ext cx="530280" cy="65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91140"/>
          <p:cNvSpPr/>
          <p:nvPr/>
        </p:nvSpPr>
        <p:spPr>
          <a:xfrm>
            <a:off x="2647800" y="2349360"/>
            <a:ext cx="844560" cy="5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9216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10720" cy="5743800"/>
          </a:xfrm>
          <a:prstGeom prst="rect">
            <a:avLst/>
          </a:prstGeom>
          <a:ln w="0">
            <a:noFill/>
          </a:ln>
        </p:spPr>
      </p:pic>
      <p:sp>
        <p:nvSpPr>
          <p:cNvPr id="1473" name="矩形 92162"/>
          <p:cNvSpPr/>
          <p:nvPr/>
        </p:nvSpPr>
        <p:spPr>
          <a:xfrm>
            <a:off x="5651640" y="4797360"/>
            <a:ext cx="4222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93185" descr=""/>
          <p:cNvPicPr/>
          <p:nvPr/>
        </p:nvPicPr>
        <p:blipFill>
          <a:blip r:embed="rId1"/>
          <a:stretch/>
        </p:blipFill>
        <p:spPr>
          <a:xfrm>
            <a:off x="814320" y="1628640"/>
            <a:ext cx="7515360" cy="3600720"/>
          </a:xfrm>
          <a:prstGeom prst="rect">
            <a:avLst/>
          </a:prstGeom>
          <a:ln w="0">
            <a:noFill/>
          </a:ln>
        </p:spPr>
      </p:pic>
      <p:sp>
        <p:nvSpPr>
          <p:cNvPr id="1475" name="矩形 93186"/>
          <p:cNvSpPr/>
          <p:nvPr/>
        </p:nvSpPr>
        <p:spPr>
          <a:xfrm>
            <a:off x="4427640" y="2614680"/>
            <a:ext cx="72684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93187"/>
          <p:cNvSpPr/>
          <p:nvPr/>
        </p:nvSpPr>
        <p:spPr>
          <a:xfrm>
            <a:off x="6588000" y="3429000"/>
            <a:ext cx="7272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93189"/>
          <p:cNvSpPr/>
          <p:nvPr/>
        </p:nvSpPr>
        <p:spPr>
          <a:xfrm>
            <a:off x="2712960" y="4789440"/>
            <a:ext cx="7794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94209" descr=""/>
          <p:cNvPicPr/>
          <p:nvPr/>
        </p:nvPicPr>
        <p:blipFill>
          <a:blip r:embed="rId1"/>
          <a:stretch/>
        </p:blipFill>
        <p:spPr>
          <a:xfrm>
            <a:off x="581040" y="866880"/>
            <a:ext cx="798192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95233" descr=""/>
          <p:cNvPicPr/>
          <p:nvPr/>
        </p:nvPicPr>
        <p:blipFill>
          <a:blip r:embed="rId1"/>
          <a:stretch/>
        </p:blipFill>
        <p:spPr>
          <a:xfrm>
            <a:off x="852480" y="1433520"/>
            <a:ext cx="7439040" cy="3990960"/>
          </a:xfrm>
          <a:prstGeom prst="rect">
            <a:avLst/>
          </a:prstGeom>
          <a:ln w="0">
            <a:noFill/>
          </a:ln>
        </p:spPr>
      </p:pic>
      <p:sp>
        <p:nvSpPr>
          <p:cNvPr id="1480" name="矩形 95234"/>
          <p:cNvSpPr/>
          <p:nvPr/>
        </p:nvSpPr>
        <p:spPr>
          <a:xfrm>
            <a:off x="4967280" y="1965240"/>
            <a:ext cx="6127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95235"/>
          <p:cNvSpPr/>
          <p:nvPr/>
        </p:nvSpPr>
        <p:spPr>
          <a:xfrm>
            <a:off x="6078600" y="2389320"/>
            <a:ext cx="7984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95236"/>
          <p:cNvSpPr/>
          <p:nvPr/>
        </p:nvSpPr>
        <p:spPr>
          <a:xfrm>
            <a:off x="7340760" y="3303720"/>
            <a:ext cx="7984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95237"/>
          <p:cNvSpPr/>
          <p:nvPr/>
        </p:nvSpPr>
        <p:spPr>
          <a:xfrm>
            <a:off x="4859280" y="3716280"/>
            <a:ext cx="7984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95238"/>
          <p:cNvSpPr/>
          <p:nvPr/>
        </p:nvSpPr>
        <p:spPr>
          <a:xfrm>
            <a:off x="4140360" y="4508640"/>
            <a:ext cx="79848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96257" descr=""/>
          <p:cNvPicPr/>
          <p:nvPr/>
        </p:nvPicPr>
        <p:blipFill>
          <a:blip r:embed="rId1"/>
          <a:stretch/>
        </p:blipFill>
        <p:spPr>
          <a:xfrm>
            <a:off x="571680" y="1123920"/>
            <a:ext cx="8001000" cy="4610160"/>
          </a:xfrm>
          <a:prstGeom prst="rect">
            <a:avLst/>
          </a:prstGeom>
          <a:ln w="0">
            <a:noFill/>
          </a:ln>
        </p:spPr>
      </p:pic>
      <p:sp>
        <p:nvSpPr>
          <p:cNvPr id="1486" name="矩形 96259"/>
          <p:cNvSpPr/>
          <p:nvPr/>
        </p:nvSpPr>
        <p:spPr>
          <a:xfrm>
            <a:off x="5022720" y="2496960"/>
            <a:ext cx="7984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96260"/>
          <p:cNvSpPr/>
          <p:nvPr/>
        </p:nvSpPr>
        <p:spPr>
          <a:xfrm>
            <a:off x="2138400" y="2954160"/>
            <a:ext cx="56196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5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886120" cy="69516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88066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315280" cy="5010120"/>
          </a:xfrm>
          <a:prstGeom prst="rect">
            <a:avLst/>
          </a:prstGeom>
          <a:ln w="0">
            <a:noFill/>
          </a:ln>
        </p:spPr>
      </p:pic>
      <p:sp>
        <p:nvSpPr>
          <p:cNvPr id="1435" name="矩形 88068"/>
          <p:cNvSpPr/>
          <p:nvPr/>
        </p:nvSpPr>
        <p:spPr>
          <a:xfrm>
            <a:off x="3755880" y="1546200"/>
            <a:ext cx="12956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88069"/>
          <p:cNvSpPr/>
          <p:nvPr/>
        </p:nvSpPr>
        <p:spPr>
          <a:xfrm>
            <a:off x="5400720" y="1546200"/>
            <a:ext cx="9000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88070"/>
          <p:cNvSpPr/>
          <p:nvPr/>
        </p:nvSpPr>
        <p:spPr>
          <a:xfrm>
            <a:off x="2200320" y="1984320"/>
            <a:ext cx="78732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88071"/>
          <p:cNvSpPr/>
          <p:nvPr/>
        </p:nvSpPr>
        <p:spPr>
          <a:xfrm>
            <a:off x="4965840" y="1984320"/>
            <a:ext cx="78732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88072"/>
          <p:cNvSpPr/>
          <p:nvPr/>
        </p:nvSpPr>
        <p:spPr>
          <a:xfrm>
            <a:off x="7718400" y="1984320"/>
            <a:ext cx="78732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88073"/>
          <p:cNvSpPr/>
          <p:nvPr/>
        </p:nvSpPr>
        <p:spPr>
          <a:xfrm>
            <a:off x="1393920" y="2365200"/>
            <a:ext cx="78732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88074"/>
          <p:cNvSpPr/>
          <p:nvPr/>
        </p:nvSpPr>
        <p:spPr>
          <a:xfrm>
            <a:off x="4757760" y="2365200"/>
            <a:ext cx="78732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88075"/>
          <p:cNvSpPr/>
          <p:nvPr/>
        </p:nvSpPr>
        <p:spPr>
          <a:xfrm>
            <a:off x="1187280" y="2759040"/>
            <a:ext cx="100836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88076"/>
          <p:cNvSpPr/>
          <p:nvPr/>
        </p:nvSpPr>
        <p:spPr>
          <a:xfrm>
            <a:off x="873000" y="5118120"/>
            <a:ext cx="89532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88077"/>
          <p:cNvSpPr/>
          <p:nvPr/>
        </p:nvSpPr>
        <p:spPr>
          <a:xfrm>
            <a:off x="3235320" y="5118120"/>
            <a:ext cx="89532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88078"/>
          <p:cNvSpPr/>
          <p:nvPr/>
        </p:nvSpPr>
        <p:spPr>
          <a:xfrm>
            <a:off x="1895400" y="5499000"/>
            <a:ext cx="89532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88079"/>
          <p:cNvSpPr/>
          <p:nvPr/>
        </p:nvSpPr>
        <p:spPr>
          <a:xfrm>
            <a:off x="1601640" y="6249960"/>
            <a:ext cx="5940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87041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429760" cy="5924880"/>
          </a:xfrm>
          <a:prstGeom prst="rect">
            <a:avLst/>
          </a:prstGeom>
          <a:ln w="0">
            <a:noFill/>
          </a:ln>
        </p:spPr>
      </p:pic>
      <p:sp>
        <p:nvSpPr>
          <p:cNvPr id="1448" name="矩形 87042"/>
          <p:cNvSpPr/>
          <p:nvPr/>
        </p:nvSpPr>
        <p:spPr>
          <a:xfrm>
            <a:off x="8172360" y="1557360"/>
            <a:ext cx="4222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87043"/>
          <p:cNvSpPr/>
          <p:nvPr/>
        </p:nvSpPr>
        <p:spPr>
          <a:xfrm>
            <a:off x="5143680" y="1927080"/>
            <a:ext cx="8791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87048"/>
          <p:cNvSpPr/>
          <p:nvPr/>
        </p:nvSpPr>
        <p:spPr>
          <a:xfrm>
            <a:off x="6178680" y="5160960"/>
            <a:ext cx="48096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87049"/>
          <p:cNvSpPr/>
          <p:nvPr/>
        </p:nvSpPr>
        <p:spPr>
          <a:xfrm>
            <a:off x="2128680" y="5553000"/>
            <a:ext cx="4813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87050"/>
          <p:cNvSpPr/>
          <p:nvPr/>
        </p:nvSpPr>
        <p:spPr>
          <a:xfrm>
            <a:off x="3848040" y="6315120"/>
            <a:ext cx="48096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87051"/>
          <p:cNvSpPr/>
          <p:nvPr/>
        </p:nvSpPr>
        <p:spPr>
          <a:xfrm>
            <a:off x="7020000" y="6308640"/>
            <a:ext cx="48096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86017" descr=""/>
          <p:cNvPicPr/>
          <p:nvPr/>
        </p:nvPicPr>
        <p:blipFill>
          <a:blip r:embed="rId1"/>
          <a:stretch/>
        </p:blipFill>
        <p:spPr>
          <a:xfrm>
            <a:off x="371520" y="1328760"/>
            <a:ext cx="8400960" cy="4200480"/>
          </a:xfrm>
          <a:prstGeom prst="rect">
            <a:avLst/>
          </a:prstGeom>
          <a:ln w="0">
            <a:noFill/>
          </a:ln>
        </p:spPr>
      </p:pic>
      <p:sp>
        <p:nvSpPr>
          <p:cNvPr id="1455" name="矩形 86021"/>
          <p:cNvSpPr/>
          <p:nvPr/>
        </p:nvSpPr>
        <p:spPr>
          <a:xfrm>
            <a:off x="1476360" y="3573360"/>
            <a:ext cx="7192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86022"/>
          <p:cNvSpPr/>
          <p:nvPr/>
        </p:nvSpPr>
        <p:spPr>
          <a:xfrm>
            <a:off x="2187720" y="4359240"/>
            <a:ext cx="5713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86023"/>
          <p:cNvSpPr/>
          <p:nvPr/>
        </p:nvSpPr>
        <p:spPr>
          <a:xfrm>
            <a:off x="1258920" y="5095800"/>
            <a:ext cx="11890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84993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048520" cy="2924280"/>
          </a:xfrm>
          <a:prstGeom prst="rect">
            <a:avLst/>
          </a:prstGeom>
          <a:ln w="0">
            <a:noFill/>
          </a:ln>
        </p:spPr>
      </p:pic>
      <p:pic>
        <p:nvPicPr>
          <p:cNvPr id="1459" name="图片 84994" descr=""/>
          <p:cNvPicPr/>
          <p:nvPr/>
        </p:nvPicPr>
        <p:blipFill>
          <a:blip r:embed="rId2"/>
          <a:stretch/>
        </p:blipFill>
        <p:spPr>
          <a:xfrm>
            <a:off x="1042920" y="3933720"/>
            <a:ext cx="7562880" cy="2314800"/>
          </a:xfrm>
          <a:prstGeom prst="rect">
            <a:avLst/>
          </a:prstGeom>
          <a:ln w="0">
            <a:noFill/>
          </a:ln>
        </p:spPr>
      </p:pic>
      <p:sp>
        <p:nvSpPr>
          <p:cNvPr id="1460" name="矩形 84996"/>
          <p:cNvSpPr/>
          <p:nvPr/>
        </p:nvSpPr>
        <p:spPr>
          <a:xfrm>
            <a:off x="7885080" y="3429000"/>
            <a:ext cx="4222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83969" descr=""/>
          <p:cNvPicPr/>
          <p:nvPr/>
        </p:nvPicPr>
        <p:blipFill>
          <a:blip r:embed="rId1"/>
          <a:stretch/>
        </p:blipFill>
        <p:spPr>
          <a:xfrm>
            <a:off x="919080" y="1457280"/>
            <a:ext cx="73058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82945" descr=""/>
          <p:cNvPicPr/>
          <p:nvPr/>
        </p:nvPicPr>
        <p:blipFill>
          <a:blip r:embed="rId1"/>
          <a:stretch/>
        </p:blipFill>
        <p:spPr>
          <a:xfrm>
            <a:off x="585720" y="1800360"/>
            <a:ext cx="7972560" cy="3257280"/>
          </a:xfrm>
          <a:prstGeom prst="rect">
            <a:avLst/>
          </a:prstGeom>
          <a:ln w="0">
            <a:noFill/>
          </a:ln>
        </p:spPr>
      </p:pic>
      <p:sp>
        <p:nvSpPr>
          <p:cNvPr id="1463" name="矩形 82946"/>
          <p:cNvSpPr/>
          <p:nvPr/>
        </p:nvSpPr>
        <p:spPr>
          <a:xfrm>
            <a:off x="7812000" y="2276640"/>
            <a:ext cx="42228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89089" descr=""/>
          <p:cNvPicPr/>
          <p:nvPr/>
        </p:nvPicPr>
        <p:blipFill>
          <a:blip r:embed="rId1"/>
          <a:stretch/>
        </p:blipFill>
        <p:spPr>
          <a:xfrm>
            <a:off x="561960" y="1333440"/>
            <a:ext cx="8020080" cy="4191120"/>
          </a:xfrm>
          <a:prstGeom prst="rect">
            <a:avLst/>
          </a:prstGeom>
          <a:ln w="0">
            <a:noFill/>
          </a:ln>
        </p:spPr>
      </p:pic>
      <p:sp>
        <p:nvSpPr>
          <p:cNvPr id="1465" name="矩形 89090"/>
          <p:cNvSpPr/>
          <p:nvPr/>
        </p:nvSpPr>
        <p:spPr>
          <a:xfrm>
            <a:off x="7812000" y="4221000"/>
            <a:ext cx="4222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90113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8096400" cy="2276280"/>
          </a:xfrm>
          <a:prstGeom prst="rect">
            <a:avLst/>
          </a:prstGeom>
          <a:ln w="0">
            <a:noFill/>
          </a:ln>
        </p:spPr>
      </p:pic>
      <p:sp>
        <p:nvSpPr>
          <p:cNvPr id="1467" name="矩形 90114"/>
          <p:cNvSpPr/>
          <p:nvPr/>
        </p:nvSpPr>
        <p:spPr>
          <a:xfrm>
            <a:off x="7812000" y="3284640"/>
            <a:ext cx="4222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54:11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